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showtime.wav" ContentType="audio/x-wav"/>
  <Override PartName="/ppt/media/allday1.wav" ContentType="audio/x-wav"/>
  <Override PartName="/ppt/media/entertainment.wav" ContentType="audio/x-wav"/>
  <Override PartName="/ppt/media/justas-thought.wav" ContentType="audio/x-wav"/>
  <Override PartName="/ppt/media/timeisit.wav" ContentType="audio/x-wav"/>
  <Override PartName="/ppt/media/ti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EC6-985D-47F1-AECE-64FD830E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AEA-E672-41A6-BDCC-9570785B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B70-DF79-42B9-8C99-6487BA84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70E-B717-4BF9-BE60-3F37E95E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279B-C344-4E27-B191-E429FC04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4701-E023-4BD0-99B0-417892F6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4D3D-406F-46B7-96E9-BFC6EC83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D847-E4AF-4D30-8DBE-18BBA7AF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A4F2-14D4-4B90-8F95-7A01B970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DA81-1FD8-4764-8156-9E1857C2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FCD3-3DB7-4E6D-98BB-ECAACE82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0B7-AEEE-4830-A6AF-85FE9637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06CF-6FED-4171-B6A9-500FDF6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A2CC-72DF-4964-A2C0-6B506E46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9FFA-189E-46FB-A608-35105DD4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977A-BE4C-4960-BC61-3A52D836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5A8C-4721-4F9F-B2AB-C5398A33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ECC-D0E6-4870-A14C-7B3D8E98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03F-5CEC-4FAA-9718-685116D1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B94-42B7-431C-A52D-0E84790A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10A-5CFB-449E-92D9-409BC5CD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FF2-15BC-4135-865B-97D42418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830-211F-45A0-8C42-A3B19BDE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E79-7AFE-43D7-8239-44AE24DE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3080" y="-14400"/>
            <a:ext cx="1521000" cy="6923160"/>
            <a:chOff x="-73080" y="-14400"/>
            <a:chExt cx="1521000" cy="6923160"/>
          </a:xfrm>
        </p:grpSpPr>
        <p:grpSp>
          <p:nvGrpSpPr>
            <p:cNvPr id="1" name=""/>
            <p:cNvGrpSpPr/>
            <p:nvPr/>
          </p:nvGrpSpPr>
          <p:grpSpPr>
            <a:xfrm>
              <a:off x="-73080" y="-14400"/>
              <a:ext cx="1521000" cy="6923160"/>
              <a:chOff x="-73080" y="-14400"/>
              <a:chExt cx="1521000" cy="6923160"/>
            </a:xfrm>
          </p:grpSpPr>
          <p:sp>
            <p:nvSpPr>
              <p:cNvPr id="2" name=""/>
              <p:cNvSpPr/>
              <p:nvPr/>
            </p:nvSpPr>
            <p:spPr>
              <a:xfrm>
                <a:off x="-73080" y="-14400"/>
                <a:ext cx="1521000" cy="692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17640" y="171360"/>
                <a:ext cx="1460520" cy="17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-73080" y="1890720"/>
                <a:ext cx="1521000" cy="5014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3d6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" name=""/>
            <p:cNvSpPr/>
            <p:nvPr/>
          </p:nvSpPr>
          <p:spPr>
            <a:xfrm>
              <a:off x="152280" y="2133720"/>
              <a:ext cx="152640" cy="47228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2514600"/>
              <a:ext cx="152280" cy="434196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3733920"/>
              <a:ext cx="152280" cy="31226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3505320"/>
              <a:ext cx="152640" cy="33512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C3BF-A288-4E8F-A2F2-BD4F898D9F58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-22320" y="3240"/>
            <a:ext cx="1470240" cy="6869160"/>
            <a:chOff x="-22320" y="3240"/>
            <a:chExt cx="1470240" cy="6869160"/>
          </a:xfrm>
        </p:grpSpPr>
        <p:sp>
          <p:nvSpPr>
            <p:cNvPr id="51" name=""/>
            <p:cNvSpPr/>
            <p:nvPr/>
          </p:nvSpPr>
          <p:spPr>
            <a:xfrm>
              <a:off x="-22320" y="3240"/>
              <a:ext cx="1470240" cy="686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-22320" y="3200400"/>
              <a:ext cx="1470240" cy="36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3d6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-17640" y="1619280"/>
              <a:ext cx="1460520" cy="179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"/>
            <p:cNvGrpSpPr/>
            <p:nvPr/>
          </p:nvGrpSpPr>
          <p:grpSpPr>
            <a:xfrm>
              <a:off x="152280" y="3581280"/>
              <a:ext cx="1067040" cy="3275280"/>
              <a:chOff x="152280" y="3581280"/>
              <a:chExt cx="1067040" cy="3275280"/>
            </a:xfrm>
          </p:grpSpPr>
          <p:sp>
            <p:nvSpPr>
              <p:cNvPr id="55" name=""/>
              <p:cNvSpPr/>
              <p:nvPr/>
            </p:nvSpPr>
            <p:spPr>
              <a:xfrm>
                <a:off x="152280" y="3581280"/>
                <a:ext cx="152640" cy="327528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44800"/>
                <a:ext cx="152280" cy="301176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2120" y="4691160"/>
                <a:ext cx="152280" cy="216540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6680" y="4533840"/>
                <a:ext cx="152640" cy="232272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F19B-2177-417F-8F29-5C3F8B4A3F81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howtim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llday1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im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ntertainmen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ustas-thought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imeisit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1549440"/>
            <a:ext cx="8001000" cy="355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t's get started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20:41:59Z</dcterms:created>
  <dc:creator>Marilyn Western</dc:creator>
  <dc:description/>
  <dc:language>en-US</dc:language>
  <cp:lastModifiedBy>admin</cp:lastModifiedBy>
  <dcterms:modified xsi:type="dcterms:W3CDTF">2004-08-22T02:56:46Z</dcterms:modified>
  <cp:revision>12</cp:revision>
  <dc:subject/>
  <dc:title>PowerPoint Presentation</dc:title>
</cp:coreProperties>
</file>